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310-3E2B-4B23-8AD8-6E6EFCE9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734-D1F9-42CC-827B-51477BB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6AF-DDDC-41B8-88B1-232E6125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67C-46B2-4627-9232-D3249B10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9A1E-ACB8-44E4-B195-434A623B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402-0E95-4420-9243-C96253C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81A-44D4-4F34-9DD3-E47A1D6D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DC9B-C0C9-441B-BB58-4CF9880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5ECB-668E-4CB4-9ABD-753186A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CB0-B7C2-4791-810B-2404DA04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97D-3888-48CF-8E39-2A9F1C2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8CE-EB27-4681-874D-DD211013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18BD-5822-4267-84D1-87BCC05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968-E60B-48A4-A9F5-BE7FB04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5D2-396F-4320-BB93-7BDF0963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85E6-7624-411B-8E9B-F070B850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A71-6541-4E41-AB6A-75F108E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6C1-DCBF-4F44-8447-8D55F6E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A40-1386-4C6E-A6CF-643CD72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3E4-C595-4346-8941-7876E2B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425-D8B8-4F70-94F1-F36B87B6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036-E5BB-4AD9-8EC2-91D0F6A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CD4-BFF3-4376-9B9C-2417E2C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E25-6ADF-4E6F-8F1D-5B559CE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529B-6C13-4B1C-9743-1A5EC30050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038F-7E92-4813-B451-F326C961CA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41280" y="54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6640" y="2649960"/>
            <a:ext cx="73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czba oznaczająca, ile razy daną rzecz pomniejszyliśmy lub powiększyliś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E LICZB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089000"/>
            <a:ext cx="27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 –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raz rzeczyw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1628640"/>
            <a:ext cx="7021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2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3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3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0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0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6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6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06640" y="3608280"/>
            <a:ext cx="7021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więk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1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440" y="5124600"/>
            <a:ext cx="65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poniższych skal wybierz skale pomniejszające i powiększają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960" y="5858640"/>
            <a:ext cx="84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: 7         13 : 1         1000 : 1          1 : 20         1 : 55         150 : 1         1 : 1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 SKALOW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72" descr=""/>
          <p:cNvPicPr/>
          <p:nvPr/>
        </p:nvPicPr>
        <p:blipFill>
          <a:blip r:embed="rId1"/>
          <a:srcRect l="3985" t="7887" r="62359" b="39974"/>
          <a:stretch/>
        </p:blipFill>
        <p:spPr>
          <a:xfrm>
            <a:off x="1376280" y="1494000"/>
            <a:ext cx="1890720" cy="2339640"/>
          </a:xfrm>
          <a:prstGeom prst="rect">
            <a:avLst/>
          </a:prstGeom>
          <a:ln w="0">
            <a:noFill/>
          </a:ln>
        </p:spPr>
      </p:pic>
      <p:pic>
        <p:nvPicPr>
          <p:cNvPr id="107" name="Obraz 172" descr=""/>
          <p:cNvPicPr/>
          <p:nvPr/>
        </p:nvPicPr>
        <p:blipFill>
          <a:blip r:embed="rId2"/>
          <a:srcRect l="3972" t="7863" r="62340" b="39958"/>
          <a:stretch/>
        </p:blipFill>
        <p:spPr>
          <a:xfrm>
            <a:off x="4572000" y="1444680"/>
            <a:ext cx="3782880" cy="4684680"/>
          </a:xfrm>
          <a:prstGeom prst="rect">
            <a:avLst/>
          </a:prstGeom>
          <a:ln w="0">
            <a:noFill/>
          </a:ln>
        </p:spPr>
      </p:pic>
      <p:pic>
        <p:nvPicPr>
          <p:cNvPr id="108" name="Obraz 172" descr=""/>
          <p:cNvPicPr/>
          <p:nvPr/>
        </p:nvPicPr>
        <p:blipFill>
          <a:blip r:embed="rId3"/>
          <a:srcRect l="3972" t="7863" r="62340" b="39958"/>
          <a:stretch/>
        </p:blipFill>
        <p:spPr>
          <a:xfrm>
            <a:off x="1892160" y="5183280"/>
            <a:ext cx="474840" cy="58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46280" y="11127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7893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zeczywiste wymiary zdję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1066680"/>
            <a:ext cx="12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2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3544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5773680"/>
            <a:ext cx="274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mniejszone 4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60879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większon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MNIEJ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400 cm. Jaka będzie długość odcinka w skali 1 : 1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3440" y="19425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400 cm : 100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6 mm. Jaka będzie długość odcinka w skali 1 : 2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06400" y="2887920"/>
            <a:ext cx="5313240" cy="520200"/>
            <a:chOff x="1706400" y="2887920"/>
            <a:chExt cx="5313240" cy="520200"/>
          </a:xfrm>
        </p:grpSpPr>
        <p:sp>
          <p:nvSpPr>
            <p:cNvPr id="123" name=""/>
            <p:cNvSpPr/>
            <p:nvPr/>
          </p:nvSpPr>
          <p:spPr>
            <a:xfrm>
              <a:off x="1706400" y="2887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Łącznik prosty ze strzałką 177"/>
            <p:cNvCxnSpPr/>
            <p:nvPr/>
          </p:nvCxnSpPr>
          <p:spPr>
            <a:xfrm>
              <a:off x="3671640" y="3249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1916640" y="3421800"/>
            <a:ext cx="50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 mm : 2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4014720"/>
            <a:ext cx="8235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Dany jest odcinek o długości 600 m. Jaka będzie długość odcinka w skali 1 : 100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ierwszej kolejności zamieniamy 600 m na centymetry. Pamiętamy, że 1 m = 100 cm.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tem 600 m = 60 000 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0 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1829520" y="5363280"/>
            <a:ext cx="60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0 000 cm : 10000 = 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31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00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1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WIĘK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3 mm. Jaka będzie długość odcinka w skali 100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080" y="19425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 mm • 100 = 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8 cm. Jaka będzie długość odcinka w skali 8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06400" y="3022920"/>
            <a:ext cx="5313240" cy="520200"/>
            <a:chOff x="1706400" y="3022920"/>
            <a:chExt cx="5313240" cy="520200"/>
          </a:xfrm>
        </p:grpSpPr>
        <p:sp>
          <p:nvSpPr>
            <p:cNvPr id="141" name=""/>
            <p:cNvSpPr/>
            <p:nvPr/>
          </p:nvSpPr>
          <p:spPr>
            <a:xfrm>
              <a:off x="1706400" y="3022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4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Łącznik prosty ze strzałką 177"/>
            <p:cNvCxnSpPr/>
            <p:nvPr/>
          </p:nvCxnSpPr>
          <p:spPr>
            <a:xfrm>
              <a:off x="3671640" y="3384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916640" y="355680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cm • 8 = 6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360" y="4249800"/>
            <a:ext cx="82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any jest odcinek o długości 15 m. Jaka będzie długość odcinka w skali 5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27360" y="5363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5 m • 5 = 7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49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0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51Z</dcterms:modified>
  <cp:revision>31</cp:revision>
  <dc:subject/>
  <dc:title>Slajd 1</dc:title>
</cp:coreProperties>
</file>